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6A1B-8085-4DC4-99CB-BC952B2E4A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748-DAC9-4074-93F9-961F6658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050E-EF76-4BA7-B68F-80AF780B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44F-1A20-4C93-A39B-B20593F7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22CF-46BE-4A24-BA71-225E3E1E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C8C1-94F1-45B8-816F-ACF7C3E2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A70A-D3E7-4FAE-BA1B-33EF4CE7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0694-92E3-474B-AC99-D78676A4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0E05-330B-4859-9A9B-7019E8D1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7282-4104-4377-B2A0-34F211CF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F753-63BA-4F76-ADD7-4A199E90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8AF-E7C7-4025-B256-E50A1380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805-7EFB-4AEA-9527-2D72FE69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C91A-BCB4-430F-9EC9-13F12CF894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ansport of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ed for transpo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ne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ug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stay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NA01441_"/>
          <p:cNvPicPr/>
          <p:nvPr/>
        </p:nvPicPr>
        <p:blipFill>
          <a:blip r:embed="rId1"/>
          <a:stretch/>
        </p:blipFill>
        <p:spPr>
          <a:xfrm>
            <a:off x="3024360" y="2819520"/>
            <a:ext cx="33750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V="1">
            <a:off x="2819520" y="3200400"/>
            <a:ext cx="0" cy="31240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85800" y="32767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6781680" y="3276720"/>
            <a:ext cx="0" cy="30477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086600" y="32767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llow dead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ter and minerals transported in an upward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g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y strong so help support the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013280" cy="601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41936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nsports sugar around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v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anion cells provide the energy for the tube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nd walls of the tube cells have pores through which food is transported from cell to cell in the form of dissolved sug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594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324320" cy="3521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ny pores found on the surfaces of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tomata take in carbon diox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air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ater vapour passes ou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leaf to the atmosphere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1523880" y="380880"/>
            <a:ext cx="6324840" cy="60962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1:37:55Z</dcterms:created>
  <dc:creator>hhashmi</dc:creator>
  <dc:description/>
  <dc:language>en-US</dc:language>
  <cp:lastModifiedBy>LEGION</cp:lastModifiedBy>
  <dcterms:modified xsi:type="dcterms:W3CDTF">2016-12-07T08:32:05Z</dcterms:modified>
  <cp:revision>5</cp:revision>
  <dc:subject/>
  <dc:title>Transport of Materials</dc:title>
</cp:coreProperties>
</file>